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4B2-903C-462F-9459-63AAF0ED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208-CEBB-4EBD-AE31-42DECF5B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397-010F-4D31-A3AC-44B08680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6F4-A1D5-4BBB-8680-1F1FF93D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D3A-C679-40C0-A7BE-22E4C590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119-F443-43CC-95F3-BA56DDC9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FAD-E410-4B44-9005-FB20C3ED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EE6-C714-4A04-9287-4AF98983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5F1-C009-44F6-8839-3E1162A2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BA3-57C0-4149-A30F-CFB1DF4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46A-A4A7-4CAA-87DA-5E031830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907-480A-45B4-ACFB-AD2CE71A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AD80-B7B9-4235-8209-BBDD13B8F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http://www.public-domain-image.com/plants/flowers/slides/bougainvillea-glabra-alias-a-paper-flower-in-greece.jpg"/>
          <p:cNvPicPr/>
          <p:nvPr/>
        </p:nvPicPr>
        <p:blipFill>
          <a:blip r:embed="rId1"/>
          <a:stretch/>
        </p:blipFill>
        <p:spPr>
          <a:xfrm>
            <a:off x="3995640" y="1185840"/>
            <a:ext cx="511488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19664400">
            <a:off x="-1351080" y="74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 rot="19547400">
            <a:off x="-579600" y="49320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lah Ev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63360" y="-520560"/>
            <a:ext cx="1400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63360" y="-520560"/>
            <a:ext cx="1400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63360" y="-520560"/>
            <a:ext cx="1400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63360" y="-520560"/>
            <a:ext cx="140040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pdbulgaria.com/UserFiles/Image/Nesebar/040904_231_Nesebar_Ruins_from_a_watch_tower_12th_century.jpg"/>
          <p:cNvPicPr/>
          <p:nvPr/>
        </p:nvPicPr>
        <p:blipFill>
          <a:blip r:embed="rId1"/>
          <a:stretch/>
        </p:blipFill>
        <p:spPr>
          <a:xfrm>
            <a:off x="259092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c/c3/Raphael_School_of_Athens.jpg/300px-Raphael_School_of_Athens.jpg"/>
          <p:cNvPicPr/>
          <p:nvPr/>
        </p:nvPicPr>
        <p:blipFill>
          <a:blip r:embed="rId2"/>
          <a:stretch/>
        </p:blipFill>
        <p:spPr>
          <a:xfrm>
            <a:off x="2438280" y="1676520"/>
            <a:ext cx="4432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http://luxedb.com/wp-content/uploads/2012/01/Greece%E2%80%99s-Acropolis-Available-for-Rent-at-Just-2000-per-Day.jpg"/>
          <p:cNvPicPr/>
          <p:nvPr/>
        </p:nvPicPr>
        <p:blipFill>
          <a:blip r:embed="rId1"/>
          <a:stretch/>
        </p:blipFill>
        <p:spPr>
          <a:xfrm>
            <a:off x="1731960" y="2206800"/>
            <a:ext cx="51195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www.welcometohosanna.com/PAULS_MISSIONARY_JOURNEYS/AthensImages/odeumAgrippaGreekAgora.jpg"/>
          <p:cNvPicPr/>
          <p:nvPr/>
        </p:nvPicPr>
        <p:blipFill>
          <a:blip r:embed="rId1"/>
          <a:stretch/>
        </p:blipFill>
        <p:spPr>
          <a:xfrm>
            <a:off x="2133720" y="2057400"/>
            <a:ext cx="44481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286000" y="114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wmaking Where people voted on issues that helped thei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www.skillsagora.com/wp-content/uploads/2011/07/Agora-800x298.jpg"/>
          <p:cNvPicPr/>
          <p:nvPr/>
        </p:nvPicPr>
        <p:blipFill>
          <a:blip r:embed="rId1"/>
          <a:stretch/>
        </p:blipFill>
        <p:spPr>
          <a:xfrm>
            <a:off x="380880" y="2819520"/>
            <a:ext cx="8382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http://farm3.static.flickr.com/2341/2335201455_3059fd0114.jpg"/>
          <p:cNvPicPr/>
          <p:nvPr/>
        </p:nvPicPr>
        <p:blipFill>
          <a:blip r:embed="rId1"/>
          <a:stretch/>
        </p:blipFill>
        <p:spPr>
          <a:xfrm>
            <a:off x="2057400" y="1219320"/>
            <a:ext cx="45054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lived apart fro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memo.fr/Media/Grece_colonies.gif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globalpost.com/sites/default/files/imagecache/medium/greece_democracy_referendum_papandreou.jpg"/>
          <p:cNvPicPr/>
          <p:nvPr/>
        </p:nvPicPr>
        <p:blipFill>
          <a:blip r:embed="rId1"/>
          <a:stretch/>
        </p:blipFill>
        <p:spPr>
          <a:xfrm>
            <a:off x="1752480" y="1600200"/>
            <a:ext cx="5010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youngcreativechevrolet.eu/phpthumb/phpThumb.php?src=/img/post/0231.JPG&amp;q=80&amp;zc=0&amp;w=670"/>
          <p:cNvPicPr/>
          <p:nvPr/>
        </p:nvPicPr>
        <p:blipFill>
          <a:blip r:embed="rId1"/>
          <a:stretch/>
        </p:blipFill>
        <p:spPr>
          <a:xfrm>
            <a:off x="2057400" y="152388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3.gstatic.com/images?q=tbn:ANd9GcSEkx-O2CNTafO1xCobB0OK_tl6dN7LmMEJaJRiNAHNCMagOufv-nrEF2QMxQ"/>
          <p:cNvPicPr/>
          <p:nvPr/>
        </p:nvPicPr>
        <p:blipFill>
          <a:blip r:embed="rId1"/>
          <a:stretch/>
        </p:blipFill>
        <p:spPr>
          <a:xfrm>
            <a:off x="2057400" y="1371600"/>
            <a:ext cx="480060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40:35Z</dcterms:modified>
  <cp:revision>96</cp:revision>
  <dc:subject/>
  <dc:title>Ancient Greece</dc:title>
</cp:coreProperties>
</file>